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5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4.wmf" ContentType="image/x-wmf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70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EF2-567B-4962-9DCA-BBB72BF5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AD68-B1DC-4CFC-8075-B0B67444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9C3-B50B-46BA-9AEC-FC08015FA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B5C1-168F-4E73-839D-0E9602EA8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D0B4-2D8B-47EA-AC2C-C0729200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C7E9-1004-4A58-85B3-668ECAC6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EA2E4-733B-4349-A003-6211D987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F905-0609-4787-AB89-C871BC4E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ECC9-B030-4ACF-98D8-F0597BF94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B5C-4524-433E-AF53-7ACFD35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19F9-A27E-4E99-94E3-5C10F9C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6F4B-3D72-47A4-BA6F-B5BEAB74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541D-D15F-4EFC-A8DC-12F8EE4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9671-6ED5-42C9-9FBE-1BCF16BB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B0FA-4EB7-4A60-B697-6496A99F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CDF5-97A6-4F3D-A333-811FC65D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A2BC-DE67-4F73-87AA-FDC61615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290-A9B2-4653-9790-2C17ADFF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942C-BA41-4BCF-A060-DCE22F78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5A56-1722-413A-AA21-8BB65098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218-D8B8-4AA6-8DB7-A52F97C5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6E6B-94AD-45BC-BFA4-71696D0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E73-AC29-4A91-8662-59F12F05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330-654D-4876-991D-8411A31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DD1-3B37-48B7-B220-BEFD9897D2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CBD-359F-46CD-95F6-0AC88F14E09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873080"/>
            <a:ext cx="838224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6699"/>
                </a:solidFill>
                <a:latin typeface="Arial"/>
              </a:rPr>
              <a:t>C# Language Fundamental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5297-4C86-44B0-9BEE-E35C52B568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sing Command-Line Argu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228600" y="76212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time, check if you have been sent any command-line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***** Command line args *****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arg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Arg: {0} ", args[i]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Notice you have no need to check the size of the array when using 'foreach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each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Arg: {0} ", 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A399-B345-461F-8511-981EA0A7A05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228600" y="289080"/>
            <a:ext cx="861048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Two public methods, each using an internal helper fun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ee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The System.Random type generates random numb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Random r = new Random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Compl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messages = new string[5]{ "Do I have to?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He started it!", "I'm too tired...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I hate school!", "You are sooo wrong."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messages[GetRandomNumber(5)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BeAgreeabl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messages = new string[3]{ "Sure! No problem!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Uh uh.", "I guess so."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messages[GetRandomNumber(3)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C3D7-3864-4622-A06F-946A5AF753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152280" y="152280"/>
            <a:ext cx="883944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int GetRandomNumber(short upperLimi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Random.Next() returns a random integer between 0 and upperLimi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r.Next(upperLimi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Grumpy Mike say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eenager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new Teenag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"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Complain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w be agreeab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Happy Mike say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",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ik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BeAgreeable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81BC-A36B-430F-BC0C-A7CF1E0244E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derstanding Static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28600" y="838080"/>
            <a:ext cx="876312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method is marked with the "static" keyword, it may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directly from the class level, and does not require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Main() is declared static to invoke the Main() method with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ing to allocate a new instance of  the defining 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do not invoke the WriteLine() method from the object leve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5" descr=""/>
          <p:cNvPicPr/>
          <p:nvPr/>
        </p:nvPicPr>
        <p:blipFill>
          <a:blip r:embed="rId1"/>
          <a:stretch/>
        </p:blipFill>
        <p:spPr>
          <a:xfrm>
            <a:off x="304920" y="3505320"/>
            <a:ext cx="86104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7C20-7F3A-4252-8432-ABB6CAEA1D9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90440" y="22860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Teenag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Random r = new Random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GetRandomNumber(short upperLimi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r.Next(upperLimit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Compl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[] messages = new string[5]{ "Do I have to?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"He started it!", "I'm too tired...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"I hate school!", "You are sooo wrong."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messages[GetRandomNumber(5)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all the static Complain method of the Teenager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-&gt; {0}", Teenager.Complain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0880" y="3276720"/>
            <a:ext cx="8382240" cy="155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.Random member variable and the GetRandomNumber() helper function method have also b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lared as static members of the Teenager class, given the rule that static members can operat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l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other static memb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F8BF-59E5-48C6-9C8D-8C326EB858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Static 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228600" y="611280"/>
            <a:ext cx="8763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ddition to static methods, a C# class may also define 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defines nonstatic data, each object of this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intains a private copy of th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228600" y="19810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is class has a single piece of non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lass SavingsAc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double currBalan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SavingsAccount(double balanc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urrBalance = balan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152280" y="54100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create SavingsAccount objects, memory fo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urrBalance field is allocated for each instan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0EC2-8F30-4189-99A8-E3C0DE15304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04920" y="1054080"/>
            <a:ext cx="861048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avingsAccou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double currBala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static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double currInterestRate = 0.04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avingsAccount(double bala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urrBalance = balanc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If you were to create three instances of SavingsAccount as 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Each SavingsAccount object maintains a copy of the currBalance fie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1 = new SavingsAccount(5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2 = new SavingsAccount(1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avingsAccount s3 = new SavingsAccount(10000.75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52280" y="1681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data, on the other hand, is allocated once and shared among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 instances of the sam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34A4-8330-49B8-ACDD-BCBADAEAA7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4724280" cy="23353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1676520" y="2743200"/>
            <a:ext cx="5867280" cy="32544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228600" y="342900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c methods can operate only on static dat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onstatic method can make use of both static and nonstatic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atic data is available to all instances of th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373E-F4E3-49A7-8071-CECB300D02A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228600" y="228600"/>
            <a:ext cx="861048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Note the use of static keywo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sz="20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This static data member is shared by all Airplane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static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sz="2000" spc="-1" strike="noStrike">
                <a:solidFill>
                  <a:srgbClr val="cc3300"/>
                </a:solidFill>
                <a:latin typeface="Times New Roman"/>
              </a:rPr>
              <a:t>Airplan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Get value from an object insta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Get value from class le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sz="2000" spc="-1" strike="noStrike">
                <a:solidFill>
                  <a:srgbClr val="008000"/>
                </a:solidFill>
                <a:latin typeface="Times New Roman"/>
              </a:rPr>
              <a:t>static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sz="2000" spc="-1" strike="noStrike">
                <a:solidFill>
                  <a:srgbClr val="008000"/>
                </a:solidFill>
                <a:latin typeface="Times New Roman"/>
              </a:rPr>
              <a:t>NumberInTheAir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0705-C0BE-4478-970E-95342A5A75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228600" y="152280"/>
            <a:ext cx="8686800" cy="6464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some airplanes are examine the static me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tatic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ake some pla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Created two Airplane types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1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2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How many are in fligh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1.</a:t>
            </a:r>
            <a:r>
              <a:rPr b="0" sz="18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18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More plane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\nCreated two more Airplane types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3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4 = new Airpla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Now how man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3.</a:t>
            </a:r>
            <a:r>
              <a:rPr b="0" sz="1800" spc="-1" strike="noStrike">
                <a:solidFill>
                  <a:srgbClr val="010199"/>
                </a:solidFill>
                <a:latin typeface="Times New Roman"/>
              </a:rPr>
              <a:t>GetNumberFromObject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Number of planes: {0} "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800" spc="-1" strike="noStrike">
                <a:solidFill>
                  <a:srgbClr val="cc3300"/>
                </a:solidFill>
                <a:latin typeface="Times New Roman"/>
              </a:rPr>
              <a:t>Airplane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sz="1800" spc="-1" strike="noStrike">
                <a:solidFill>
                  <a:srgbClr val="008000"/>
                </a:solidFill>
                <a:latin typeface="Times New Roman"/>
              </a:rPr>
              <a:t>GetNumber()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thod Parameter Modif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228600" y="685800"/>
            <a:ext cx="8763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s takes parameters passed in by the call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set of parameter modifiers that control how argu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sent into a given met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101520" y="2209680"/>
            <a:ext cx="8915400" cy="39625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BD9-B3D9-46BB-B695-7380F6DA2E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228600" y="30492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w using System.Enviro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[] theArgs = Environment.GetCommandLineArg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Path is: {0}", theArgs[0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(int i=1; i &lt; theArgs.Length; 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Again, the args are {0}", theArgs[i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efault Parameter-Passing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228600" y="533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fault manner in which a parameter is sent into a function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y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valu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04920" y="144792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rguments are passed by value by defaul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Add(int x, int 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ans = x + 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aller will not see these changes as you are modifying a copy of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original da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 = 100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= 8888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a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52280" y="472428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the incoming integer parameters will be passed by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change the values of the parameters within the scop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, the caller is una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28600" y="228600"/>
            <a:ext cx="876312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x = 9, y = 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Before call: X: {0}, Y: {1}", x, 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Answer is: {0}", Add(x, y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After call: X: {0}, Y: {1}", x, 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228600" y="266688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The values of x and y remain same before and after the call to Add(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52280" y="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"out"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228600" y="533520"/>
            <a:ext cx="876312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dd(int x, int y,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a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ns = x + y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return a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 need to assign before use when a variable is u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a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dd(9, 9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ans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nswer is : {0}", ans);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152280" y="4952880"/>
            <a:ext cx="883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ing a method with output parameters also requires the us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out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ut keyword does serve a very useful purpose: it allows the call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obtain multiple return values from a single method invo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228600" y="228600"/>
            <a:ext cx="868680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Returning multiple output para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illTheseValue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int a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string b,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out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bool 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 = 9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 = "Enjoy your string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 =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i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 st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ool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FillTheseValues(out i, out str, out 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Int is: {0}", i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String is: {0}", 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Boolean is: {0}", 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228600" y="76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"ref"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52280" y="609480"/>
            <a:ext cx="8839440" cy="57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causes arguments to be passed by refer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ffect is that any changes to the parameter in the method will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flected in that variable when control passes back to the call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use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arameter, both the method definition and the call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ethod must explicitly use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f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distinction between output and reference parame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put parameters do not need to be initialized before they 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ed to the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parameter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 initialized before they are pass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eth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4"/>
          <p:cNvSpPr/>
          <p:nvPr/>
        </p:nvSpPr>
        <p:spPr>
          <a:xfrm>
            <a:off x="304920" y="1066680"/>
            <a:ext cx="84582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wapStrings(ref string s1, ref string s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tempStr = s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1 = s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2 = tempSt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 = "First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2 = "My other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: {0}, {1} ", s,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wapStrings(ref s, ref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: {0}, {1} ", s, s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Program :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04920" y="1050840"/>
            <a:ext cx="8534160" cy="5436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RefExa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(ref string 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"changed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tr = "original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.........{0}",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(ref 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r is now "changed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.........{0}",str);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Program :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152280" y="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# “params” Keyw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76320" y="6890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lets you specify a method parameter that tak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 argument where the number of arguments is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dditional parameters are permitted after th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method declaration, and only on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m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is permitted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method decla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4"/>
          <p:cNvSpPr/>
          <p:nvPr/>
        </p:nvSpPr>
        <p:spPr>
          <a:xfrm>
            <a:off x="152280" y="304920"/>
            <a:ext cx="84582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Return average of 'some number' of dou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double CalculateAverage(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param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double[] valu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 sum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values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um += values[i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(sum / values.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ass in a comma-delimited list of doubles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 averag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verage =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alculateAverage(4.0, 3.2, 5.7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verage of 4.0, 3.2, 5.7 is: {0}",aver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...or pass an array of dou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double[] data = { 4.0, 3.2, 5.7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verage = </a:t>
            </a:r>
            <a:r>
              <a:rPr b="1" sz="1800" spc="-1" strike="noStrike">
                <a:solidFill>
                  <a:srgbClr val="000000"/>
                </a:solidFill>
                <a:latin typeface="Times New Roman"/>
              </a:rPr>
              <a:t>CalculateAverage(data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Average of data is: {0}", aver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228600" y="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ing Reference Types by 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52280" y="685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 types can obviously be passed as parameters to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. Passing an object by reference is quite different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ing it by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228600" y="2057400"/>
            <a:ext cx="868680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ring full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int ag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rson(string n, int 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Person() 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PrintInfo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{0} is {1} years old", fullName, ag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2523-EEAA-400F-8E5C-1ADA311CAAB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ing Objects: Constructor Bas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228600" y="838080"/>
            <a:ext cx="87631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las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definition of a user-defined type (UDT) that is oft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garded as a blueprint for variables of this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simply a term describing a given instance of a particula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 "new" keyword is the  way to create an object insta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80880" y="3124080"/>
            <a:ext cx="85345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1; //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.SayHi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52280" y="7632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SendAPersonByValue(Person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hange the age of 'p'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.age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;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Will the caller see this reassignmen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 = new Person("Nikki", 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Passing ref-types by val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***** Passing Person object by value 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erson fred = new Person("Fred", 1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by value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ed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ndAPersonByValue(fr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by value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red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6019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f a reference type is passed by value, the callee may change the values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of the object's state data, but may not change the object it is referenc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ing Reference Types by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we have a SendAPersonByReference() method,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sses a reference type by refere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28600" y="152388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full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int ag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erson(string n, int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ullName = 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Person() {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PrintInfo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{0} is {1} years old", fullName, ag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152280" y="76320"/>
            <a:ext cx="8839440" cy="559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SendAPersonByReference(ref Person p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hange some data of 'p'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.age = 5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// 'p' is now pointing to a new object on the heap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 = new Person("Nikki", 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***** Passing Person object by reference 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erson mel = new Person("Mel", 2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Before by ref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l.PrintInfo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endAPersonByReference(ref me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After by ref call, Person is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l.PrintInfo(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6320" y="57150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If a reference type is passed by reference, the callee may change the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values of the object’s state dat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s well as the object it is referencing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6111-C23E-47FC-AA4A-F3A61D41B6E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ray Manipulation in C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28600" y="533520"/>
            <a:ext cx="8763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rray is a collection of data points. Arrays are references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derive from a common base class named System.Ar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ys can contain any intrinsic type defined by C#, includ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rays of objects, interfaces, or struc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arrays can be single or multidimensional, and must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ed with the square brackets ([])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laced </a:t>
            </a:r>
            <a:r>
              <a:rPr b="1" i="1" lang="en-US" sz="2400" spc="-1" strike="noStrike">
                <a:solidFill>
                  <a:srgbClr val="ffcc66"/>
                </a:solidFill>
                <a:latin typeface="Times New Roman"/>
              </a:rPr>
              <a:t>after 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data type of</a:t>
            </a:r>
            <a:br>
              <a:rPr sz="2400"/>
            </a:b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 the arr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8458200" cy="2286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5" descr=""/>
          <p:cNvPicPr/>
          <p:nvPr/>
        </p:nvPicPr>
        <p:blipFill>
          <a:blip r:embed="rId2"/>
          <a:stretch/>
        </p:blipFill>
        <p:spPr>
          <a:xfrm>
            <a:off x="380880" y="5969160"/>
            <a:ext cx="8458200" cy="799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D3E-96B9-4EA9-B8A8-8EDB15669F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74200" cy="1524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8686800" cy="17161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4"/>
          <p:cNvSpPr/>
          <p:nvPr/>
        </p:nvSpPr>
        <p:spPr>
          <a:xfrm>
            <a:off x="228600" y="1981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holds true if you create an array of custom obje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228600" y="4572000"/>
            <a:ext cx="8610480" cy="13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The size of this array will automatically be set to 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Note the lack of the 'new' keyword and empty [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[] ages = {20, 22, 23, 0} 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FB6-250F-435C-8D86-D5650051998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2"/>
          <p:cNvSpPr/>
          <p:nvPr/>
        </p:nvSpPr>
        <p:spPr>
          <a:xfrm>
            <a:off x="228600" y="152280"/>
            <a:ext cx="8686800" cy="335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nitialize each member at declaration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firstNames = new string[5]{ "Steve", "Gina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Swallow", "Baldy", "Gunner" 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...OR assign values member by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firstNames = new string[5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0] = "Steve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1] = "Gina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2] = "Swallow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3] = "Baldy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irstNames[4] = "Gunner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152280" y="3843360"/>
            <a:ext cx="8839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mbers in a .NET array are automatically set to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pectiv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an array of numerical types, each member is set to 0 (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0.0 in the case of floating point numerics), arrays of objects begin lif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et to null, and Boolean types are set to fal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B7AE-6631-47FC-9A87-43C81FDA0AE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"/>
          <p:cNvSpPr/>
          <p:nvPr/>
        </p:nvSpPr>
        <p:spPr>
          <a:xfrm>
            <a:off x="228600" y="2286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rays can also be passed into and returned from custom fun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152280" y="762120"/>
            <a:ext cx="883944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PrintArray(int[] my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=0; i&lt;myInts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Item {0} is {1}", i, myInts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tring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[] GetStringArra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theString = {" Hello", "from", "GetStringArray"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theString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03040" y="4175280"/>
            <a:ext cx="878868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 ages = {20, 22, 23, 0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ntArray(age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strs = GetStringArray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(string s in st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9758-07E9-4636-80A4-E137879BD5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52280" y="333360"/>
            <a:ext cx="876312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second_lar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[] a = new int[10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Enter the array size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n = int.Parse(Console.ReadLine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Enter the array elements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n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i] = int.Parse(Console.ReadLine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n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j = 0; j &lt; n; j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a[i] &lt; a[j]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temp = a[i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i] = a[j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[j] = te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The Second largest number in an array is" + a[n - 2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5546-B93D-4A4B-961D-50B7F25191F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with Multidimensional Arr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228600" y="6094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# supports two varieties of multidimensional array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irst of these is termed a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rectangular arra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which is simply an  array of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multiple dimensions, where each row is of the same lengt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228600" y="186840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[,] myMatrix = new int[6, 6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6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6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Matrix[i, j] = i * 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6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6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myMatrix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2276-E910-4039-8791-0A76321C981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228600" y="647640"/>
            <a:ext cx="8686800" cy="612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matrix_mul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a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b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[,] c = new int[3,3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rows and columns for Matrix A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m1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1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rows and columns for Matrix B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m2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n2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f (m1 == n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Matrix A element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[i, j]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28600" y="7632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o multiply to matrices using Rectangular arra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AA6-A149-4E60-81FA-F3A93DFA80A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228600" y="152280"/>
            <a:ext cx="85345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1 = new HelloClas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Class c2 = new HelloClas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28600" y="3352680"/>
            <a:ext cx="845820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"new" keyword is in charge of allocating the correct nu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bytes for the specified class and acquiring sufficient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om the managed he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# object variables are actually a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referenc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o the object in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memory, not the actual object itsel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 c1 and c2 each reference a distinct HelloClass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llocated on the managed he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535D-99DA-4AD4-9148-FD19DC2AE6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304920" y="98280"/>
            <a:ext cx="8610480" cy="646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Enter the Matrix B element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2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b[i, j] = int.Parse(Console.ReadLin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Matrix A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a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Matrix B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2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b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B87-1454-4848-994E-426B442C13F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2"/>
          <p:cNvSpPr/>
          <p:nvPr/>
        </p:nvSpPr>
        <p:spPr>
          <a:xfrm>
            <a:off x="228600" y="152280"/>
            <a:ext cx="8610480" cy="6311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1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[i, j]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k = 0; k &lt; 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; k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[i, j] = a[i, k] * b[k, j] + c[i, 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result after multiplication is: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m1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n2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c[i, j] + "\t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7D42-9231-4221-92A3-E6A3BA1306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228600" y="22860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type of multidimensional array is terme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agged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arr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gged arrays contain some number of inner arrays, each of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have a unique upper lim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0" name="Picture 3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46748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A545-15D2-4D37-8460-9863ADC63B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304920" y="289080"/>
            <a:ext cx="861048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Jagged_arr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700" spc="-1" strike="noStrike">
                <a:solidFill>
                  <a:srgbClr val="000000"/>
                </a:solidFill>
                <a:latin typeface="Times New Roman"/>
              </a:rPr>
              <a:t>// A jagged array (an array of arrays)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sz="1700" spc="-1" strike="noStrike">
                <a:solidFill>
                  <a:srgbClr val="000000"/>
                </a:solidFill>
                <a:latin typeface="Times New Roman"/>
              </a:rPr>
              <a:t> Here we have an array of 5 different arrays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[] myJagArray = new int[5][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myJagArray.Length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yJagArray[i] = new int[i + 7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i = 0; i &lt; 5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Length of row {0} is {1} :\t", i, myJagArray[i].Length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 (int j = 0; j &lt; myJagArray[i].Length; j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myJagArray[i][j] + "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298E-6998-4BFB-B448-06B434F7EF5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22860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28600" y="15228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Jarray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[][] jaggedArray = new int[4][];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int sum =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0] = new int[4] { 1, 2, 3, 4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1] = new int[2] { 1, 2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2] = new int[3] { 1, 2, 3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jaggedArray[3] = new int[4] { 1, 2, 3, 4 }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i = 0; i &lt; jaggedArray.Length; 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(int j = 0; j &lt; jaggedArray[i].Length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um = sum + jaggedArray[i][j]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e sum of all the elements in Jagged arrays is: {0}", su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B26D-E59F-4723-B651-2ED180401B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ystem.Array Bas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228600" y="83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.NET array you create is automatically derived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Array. This class defines a number of helpful methods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ke working with arrays much more pala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4" descr=""/>
          <p:cNvPicPr/>
          <p:nvPr/>
        </p:nvPicPr>
        <p:blipFill>
          <a:blip r:embed="rId1"/>
          <a:stretch/>
        </p:blipFill>
        <p:spPr>
          <a:xfrm>
            <a:off x="76320" y="1981080"/>
            <a:ext cx="899136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C539-C5F3-4724-99EC-B88B073E057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192240" y="254160"/>
            <a:ext cx="8875440" cy="38606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5062-74A7-4FDA-84A6-2C1362DCC8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228600" y="1522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Arr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Create some string arrays and exercise some System.Array member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Array of string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ring[] firstNames = { "Steve", "Dominic", "Swallow", "Baldy" }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re is the array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.Reverse(firstName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re is the array once reversed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Clear out all but Bald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Cleared out all but Baldy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Array.Clear(firstNames, 1, 3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for (int i = 0; i &lt; firstNames.Length; i++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("Name: {0}\t", firstNames[i]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5C5B4-54F3-4407-8131-B4EA212B97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ing Manipulation in C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152280" y="8380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ng belongs to System.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3341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6055-FCFF-4130-AE5D-373128AE14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2"/>
          <p:cNvSpPr/>
          <p:nvPr/>
        </p:nvSpPr>
        <p:spPr>
          <a:xfrm>
            <a:off x="228600" y="152280"/>
            <a:ext cx="86868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ome string oper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***** Fun with Strings *****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s = "Boy, this is taking a long time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String strobj = "This is a TES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-&gt; s contains 'oy'?: {0}", s.Contains("oy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-&gt; s contains 'Boy'?: {0}", s.Contains("Boy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s.Replace('.', '!'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s.Insert(0, "Boy O' 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s == strobj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ame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NOt same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newstring = s + strob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 + strobj = {0}", newstring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k=0; k&lt;s.Length; k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har {0} is {1}", k,s[k]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817B-9502-4CCD-BDFF-595675DF729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152280"/>
            <a:ext cx="876312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vious HelloClass objects have been constructed using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ault constructo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ich by definition never takes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ery C# class is automatically provided with a free defaul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tructor, which you may redefine if needed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fault constructor ensures that all member data is set to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ropriat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constructors never provide a return value (not even voi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9BE1-7427-4C5D-BB2F-79CBC37546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228600" y="22860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rogram for reversing a str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String_re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result, string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Enter a string 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1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sult = " 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String length is :"+string1.Length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(int i=string1.Length-1; i&gt;=0;i--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sult = result + string1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reverse string is : " + resul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85D5-83D5-411D-9BFB-98EED424FB3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2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cape Characters and "Verbatim Strings"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3"/>
          <p:cNvSpPr/>
          <p:nvPr/>
        </p:nvSpPr>
        <p:spPr>
          <a:xfrm>
            <a:off x="152280" y="76212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trings can contain any number of escape charact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escape character begins with a backslash, followed by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cific tok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228600" y="2362320"/>
            <a:ext cx="876312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Literal strings may contain any number of escape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s3 = "Hello\tThere\tAgain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Everyone loves \"Hello World\"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C:\\MyApp\\bin\\debug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All finished.\n\n\n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AEA7-917D-4FDC-928A-1D0C9F26C3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7" name="Picture 3" descr=""/>
          <p:cNvPicPr/>
          <p:nvPr/>
        </p:nvPicPr>
        <p:blipFill>
          <a:blip r:embed="rId1"/>
          <a:stretch/>
        </p:blipFill>
        <p:spPr>
          <a:xfrm>
            <a:off x="228600" y="44460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6406-1EF6-4C28-9DDA-8704C8F750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"/>
          <p:cNvSpPr/>
          <p:nvPr/>
        </p:nvSpPr>
        <p:spPr>
          <a:xfrm>
            <a:off x="228600" y="76320"/>
            <a:ext cx="87631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introduces the @-prefixed string literal notation terme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erbatim str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verbatim strings, you disable the processing of a literal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scape charact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most useful when working with  strings represen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rectory and network pa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304920" y="2590920"/>
            <a:ext cx="8610480" cy="1008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e following string is printed verbati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us, all escape characters are display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@"C:\MyApp\bin\debug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304920" y="380988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so note that verbatim strings can be used to preserve white spa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or strings that flow over multiple lin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304920" y="4572000"/>
            <a:ext cx="861048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hite space is preserved with verbatim strin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myLongString = @"This is a 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string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yLong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D1F9-AE66-4AF1-BF16-78333F295C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2"/>
          <p:cNvSpPr/>
          <p:nvPr/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System.Text.StringBuil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152280" y="736560"/>
            <a:ext cx="8839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ring type is perfect when you wish to represent bas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 variables (first name, SSN, etc.), it can be inefficient if you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uilding a program that makes heavy use of textu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a string cannot be modified once established. C# string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re immu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examine the methods of System.String, we notice tha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eem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ernally modify a string, in fact retur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difi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py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original 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5"/>
          <p:cNvSpPr/>
          <p:nvPr/>
        </p:nvSpPr>
        <p:spPr>
          <a:xfrm>
            <a:off x="304920" y="4267080"/>
            <a:ext cx="861048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ystem.String strFixed = "This is how I began life";       Console.WriteLine(strFixed);</a:t>
            </a:r>
            <a:br>
              <a:rPr sz="2400"/>
            </a:b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tring upperVersion = strFixed.ToUppe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trFixed.ToUpper()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strFixed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{0}\n\n", upperVersion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081C-3813-4897-AB9D-0C198F4622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Text Box 2"/>
          <p:cNvSpPr/>
          <p:nvPr/>
        </p:nvSpPr>
        <p:spPr>
          <a:xfrm>
            <a:off x="152280" y="0"/>
            <a:ext cx="8839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can become slightly annoying to work with copies of copies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ease the pain, the System.Text namespace defines a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d StringBuilde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modifications you make to the StringBuilder instance affec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derlying buff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304920" y="2666880"/>
            <a:ext cx="861048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 System.Text; // Recall, StringBuilder lives her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tring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e a StringBuilder and change the underlying buff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Builder myBuffer = new StringBuilder("I am a buffe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Buffer.Append(" that just got longer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7CDD-957B-4A5D-9764-0E4C6CC659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Text Box 2"/>
          <p:cNvSpPr/>
          <p:nvPr/>
        </p:nvSpPr>
        <p:spPr>
          <a:xfrm>
            <a:off x="304920" y="7632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yond appending to the internal buffer, the StringBuilder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ws to replace and remove charac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have established the state of your buffer, call ToString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store the final result into a System.String data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228600" y="198108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.Tex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String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ringBuilder myBuffer = new StringBuilder("I am a buffer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Capacity of StringBuilder is:" + myBuffer.Capaci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Buffer.Append(" that just got longer..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yBuffer.Append("and even longer.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ransfer the buffer to an uppercase fixed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myBuffer.ToString().ToUpper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9B0-BA2A-4AC4-BFD7-C92B6FF9195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2"/>
          <p:cNvSpPr/>
          <p:nvPr/>
        </p:nvSpPr>
        <p:spPr>
          <a:xfrm>
            <a:off x="15228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Text Box 3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# Enumer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152280" y="838080"/>
            <a:ext cx="8839440" cy="29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ten it is convenient to create a set of symbolic nam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derlying numerical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if you are creating an employee payroll system,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wish to use the constants VP, Manager, Grunt, and Contra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ather than raw numerical values such as {0, 1, 2, 3}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upports the notion of custom enumerations for this very reas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example, here is the EmpType enumer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228600" y="388620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custom enume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t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or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=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AA11-3C83-4EC5-8B7D-22C2B27B522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2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the numbering scheme sets the first element to zero (0)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, followed by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 + 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ion. You are free to chan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is behavior as you see below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3"/>
          <p:cNvSpPr/>
          <p:nvPr/>
        </p:nvSpPr>
        <p:spPr>
          <a:xfrm>
            <a:off x="228600" y="137160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egin numbering at 10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2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nt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= 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152280" y="3657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umerations do not necessarily need to follow a sequential ord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228600" y="4267080"/>
            <a:ext cx="876312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1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unt 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= 100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P =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906F-C30F-4E66-BF62-7B2D90F0E0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2"/>
          <p:cNvSpPr/>
          <p:nvPr/>
        </p:nvSpPr>
        <p:spPr>
          <a:xfrm>
            <a:off x="152280" y="15228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torage type used for each item in an enumeration maps to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Int32 by default. You are also free to change this to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ant to set the underlying storage value of EmpType to b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yte rather than an int, we can write as follow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3"/>
          <p:cNvSpPr/>
          <p:nvPr/>
        </p:nvSpPr>
        <p:spPr>
          <a:xfrm>
            <a:off x="304920" y="23623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time, EmpType maps to an underlying by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um EmpType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r = 10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t = 1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actor = 100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P = 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BE1A-ED10-4298-80C9-2DA1AD3C934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52280" y="25704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Class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8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Default constructor called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8(int x, int 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stom constructor called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X = x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Y = 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int intX, intY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8 c1 = new HelloClass8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1.intX = {0} \n c1.intY = {1} \n",c1.intX, c1.in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8 c2 = new HelloClass8(100,200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2.intX = {0} \nc2.intY = {1} \n", c2.intX, c2.intY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CF02-574F-444E-9E95-3C6C7FA3B71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Text Box 2"/>
          <p:cNvSpPr/>
          <p:nvPr/>
        </p:nvSpPr>
        <p:spPr>
          <a:xfrm>
            <a:off x="228600" y="0"/>
            <a:ext cx="8458200" cy="6712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lass EnumClas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AskForBonus(EmpType 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witch(e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Contractor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You already get enough cash...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Grunt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You have got to be kidding...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Manager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How about stock options instead?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ase EmpType.VP: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Console.WriteLine("VERY GOOD, Sir!"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default: break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EmpType fred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fred = EmpType.Contractor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AskForBonus(fred);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044-1193-4A6B-A340-E2C35CF1BDF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52280" y="9036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.Enum Base 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4"/>
          <p:cNvSpPr/>
          <p:nvPr/>
        </p:nvSpPr>
        <p:spPr>
          <a:xfrm>
            <a:off x="228600" y="76212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nteresting thing about .NET enumerations is that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icitly derive from System.Enu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base class defines a number of methods that allow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rogate and transform a given enum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1" name="Picture 5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8763120" cy="40384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4C6-687B-4460-94F0-AC49145A65C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Text Box 2"/>
          <p:cNvSpPr/>
          <p:nvPr/>
        </p:nvSpPr>
        <p:spPr>
          <a:xfrm>
            <a:off x="152280" y="228600"/>
            <a:ext cx="876312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num EmpTy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Manage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ru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tractor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V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lass enumer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int information for the EmpType enume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rray obj = Enum.GetValues(typeof(EmpType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Line("This enum has {0} members.", obj.Length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each (EmpType e in obj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String name: {0},", e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 int: ({0}),", Enum.Format(typeof(EmpType), e, "D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onsole.Write(" hex: ({0})\n", Enum.Format(typeof(EmpType), e, "X"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5E02-8F3D-4CFD-87FA-3E8118E0C8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Structures in C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228600" y="838080"/>
            <a:ext cx="8763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can take constructors (provided they have arguments)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n implement interfaces, and can contain numerous memb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structures  are implicitly derived from System.Value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228600" y="2514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D78-3BFC-47B1-AB4E-72BB90B457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Text Box 2"/>
          <p:cNvSpPr/>
          <p:nvPr/>
        </p:nvSpPr>
        <p:spPr>
          <a:xfrm>
            <a:off x="228600" y="76320"/>
            <a:ext cx="868680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Our existing enumer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um EmpType : by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ager = 10, Grunt 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or = 100, VP =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 EMPLOY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EmpType title; // One of the fields is our custom en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hort deptI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uct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reate and format Fr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fred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deptID = 4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name = "Fre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d.title = EmpType.Gru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B2E6-1C0D-4A58-806A-4AD54C306C7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228600" y="228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o not denote a custom constructor, we are required to as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lues to each field before making use of stack-based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Text Box 3"/>
          <p:cNvSpPr/>
          <p:nvPr/>
        </p:nvSpPr>
        <p:spPr>
          <a:xfrm>
            <a:off x="304920" y="1447920"/>
            <a:ext cx="868680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tructs may define custom constructors (if they have arg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 EMPLOY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Fiel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Type titl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hort deptI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onstruc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EMPLOYEE(EmpType et, string n, short 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= e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= 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tID = 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B333-D167-4116-AABF-766387F7C2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228600" y="2286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truct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ust use 'new' to trigger a custom construct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 mary =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new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EE(EmpType.VP, "Mary", 1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" y="28954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The "new" keyword is only used for consistency between value-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based and reference-based types. When you "new" a structure, you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are still creating a stack-based ent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6BCF-4CFF-4AF0-A546-427A536E2E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228600" y="1440"/>
            <a:ext cx="86868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uctures can, of course, be used as parameters to any memb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un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ssume the StructTester class defines a method na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playEmpStats(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Text Box 3"/>
          <p:cNvSpPr/>
          <p:nvPr/>
        </p:nvSpPr>
        <p:spPr>
          <a:xfrm>
            <a:off x="304920" y="175248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Extract interesting information from an EMPLOYEE structu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DisplayEmpStats(EMPLOYEE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Here is {0}\'s info:", e.nam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Department ID: {0} ", e.deptI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itle: {0} ", e.titl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mpStats(mary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EmpStats(fre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210D-BDB9-4CCD-881C-D0E559A1A7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Un)boxing Custom Struc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Box 4"/>
          <p:cNvSpPr/>
          <p:nvPr/>
        </p:nvSpPr>
        <p:spPr>
          <a:xfrm>
            <a:off x="152280" y="609480"/>
            <a:ext cx="87631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ing and unboxing provide a convenient way to flip betwee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value types and reference typ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convert a structure variable into an object reference, simply box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 val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3"/>
          <p:cNvSpPr/>
          <p:nvPr/>
        </p:nvSpPr>
        <p:spPr>
          <a:xfrm>
            <a:off x="304920" y="2270160"/>
            <a:ext cx="861048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Create and box a new employe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OYEE stan = new EMPLOYEE(EmpType.Grunt, "Stan", 1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 stanInBox = sta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"/>
          <p:cNvSpPr/>
          <p:nvPr/>
        </p:nvSpPr>
        <p:spPr>
          <a:xfrm>
            <a:off x="304920" y="3657600"/>
            <a:ext cx="8610480" cy="2228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Because we have boxed our value data type into a structur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we can unbox and manipulate the cont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static void UnboxThisEmployee(object 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LOYEE temp = (EMPLOYEE)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ole.WriteLine(temp.name + " is alive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943600"/>
            <a:ext cx="861048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Send boxed employee in for process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boxThisEmployee(stanInBo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5F7B-E356-4A78-897C-E668220F8F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Custom Name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77840" y="711360"/>
            <a:ext cx="883908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n we build our own custom applications, it can be very helpful  to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group the related types into custom namespace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C#, this is accomplished using the namespace keywor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ssume we are developing a collection of geometric classes named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Square, Circle, and Hexagon. Having similarities, we would like to group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them all together into a common custom namespac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 have two basic approaches. First, we define each class within a single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  file (shapeslib.cs) as follows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241200" y="3962520"/>
            <a:ext cx="8763120" cy="2770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shapeslib.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Shap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Circle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Circle{ /*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Hexagon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xagon{ /* More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 Square clas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Square{ /* Even more interesting methods... */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1D4-50E8-4CE6-990F-8AB15C7A36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at a Memory Lea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28600" y="8380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() method of the previous HelloClass type has no logic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licitly destroys the c1 and c2 variabl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0880" y="1752480"/>
            <a:ext cx="861084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Class8 c1 = new HelloClass8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1.intX = {0} \n c1.intY = {1} \n",c1.intX, c1.in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lloClass8 c2 = new HelloClass8(100,200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c2.intX = {0} \nc2.intY = {1} \n", c2.intX, c2.int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304920" y="4495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or frees the allocated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utomatically, and therefore C# does not support a "delete“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152280" y="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natively, we can split a single namespace into multiple C# files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wrap the given class definitions in the same namesp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Text Box 3"/>
          <p:cNvSpPr/>
          <p:nvPr/>
        </p:nvSpPr>
        <p:spPr>
          <a:xfrm>
            <a:off x="228600" y="83808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ircle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ircl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xagon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xagon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quare.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Squar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52280" y="152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other namespace wishes to use objects within a distin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space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keyword can be used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228600" y="1066680"/>
            <a:ext cx="876312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Make use of types defined the MyShape namesp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99"/>
                </a:solidFill>
                <a:latin typeface="Times New Roman"/>
              </a:rPr>
              <a:t>using MyShap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xagon h = new 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c = new Circ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 s = new Squa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Type’s Fully Qualified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152280" y="8380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not required to make use of the C# using keyword wh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ing a type defined in an external namespace,  rather fu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alified name of the type could be u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304920" y="2133720"/>
            <a:ext cx="8610480" cy="43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te we are not 'using' MyShapes anymo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xagon h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Hexagon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ircle c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Circl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quare s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Sha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Squa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228600" y="228600"/>
            <a:ext cx="8610480" cy="4848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Another shapes namespace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3D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228600" y="152280"/>
            <a:ext cx="8763120" cy="579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mbiguities abound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3D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Which namespace do I referenc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xagon h = new Hexagon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le c = new Circle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uare s = new Square()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304920" y="228600"/>
            <a:ext cx="853416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We have now resolved the ambigu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3DShapes.Hexagon h = new My3DShapes.Hexago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3DShapes.Circle c = new My3DShapes.Circl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Shapes.Square s = new MyShapes.Squar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using Ali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Text Box 3"/>
          <p:cNvSpPr/>
          <p:nvPr/>
        </p:nvSpPr>
        <p:spPr>
          <a:xfrm>
            <a:off x="152280" y="647640"/>
            <a:ext cx="88394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# using keyword can also be used to create an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lias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a type’s  full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qualified nam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do so, we are able to define a token that is substituted with  the type’s ful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name at compile tim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152280" y="2139840"/>
            <a:ext cx="8839440" cy="4726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My3DShap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Resolve the ambiguity using a custom ali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The3DHexagon = My3DShapes.Hexagon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is really creating a My3DShapes.Hexagon typ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3DHexagon h2 = new The3DHexagon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22860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alternative using syntax can also be used to create an alias to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engthy namesp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228600" y="158436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yAlia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ystem.Runtime.Serialization.Formatters.Binar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Ali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BinaryFormatter b = new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yAli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BinaryFormatter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228600" y="228600"/>
            <a:ext cx="876312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.Runtime.Serialization.Formatters.Binary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MyA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ShapeTes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Formatter b = new BinaryFormatt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52280" y="9036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ating Nested Namesp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3"/>
          <p:cNvSpPr/>
          <p:nvPr/>
        </p:nvSpPr>
        <p:spPr>
          <a:xfrm>
            <a:off x="177840" y="685800"/>
            <a:ext cx="8763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mespaces with in other namespaces can be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ies do so in numerous places to prov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ven deeper level of type organ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create a root namespace that contains the exis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y3DShapes namespace, we can update our code as follow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228600" y="3048120"/>
            <a:ext cx="861048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Nesting a namesp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Chapter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My3DShap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5546-39DF-4C7C-98E4-F9519523AE3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osition of a C# Appl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04920" y="838080"/>
            <a:ext cx="86104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loClass8 type has been constructed to perform two dut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the class defines the entry point of the applic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, HelloClass8 maintains two custom data members an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ew overloaded constru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more thing is that the static Main() method creates an inst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very class in which  it was defi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ested namespace can be defined using the following compa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228600" y="990720"/>
            <a:ext cx="868680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esting a namespace (take tw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Chapter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My3DSha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Circle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ircl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Hexagon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xagon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3D Square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Square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F411-B18A-42BD-AE14-BFA9DB4D8FC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152280" y="152280"/>
            <a:ext cx="868680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ring userMessag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Console.WriteLine("Default ctor called!")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HelloClass(string ms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ustom ctor called!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Message = ms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void PrintMessage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 is: {0}", userMess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HelloA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lloClass c1 = new HelloClass("Hey there...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1.PrintMessag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E5FA-8F11-4386-B8AB-73B876CA32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Assignments and Variable Sc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52280" y="6094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intrinsic .NET data types have a default value.  When cust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re created, all member variables are automatically assign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ir appropriate default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04920" y="1828800"/>
            <a:ext cx="8610480" cy="4782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DefaultValueTe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byte theSignedBy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byte theByt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hort theShor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short theUShor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int theIn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int theUIn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long theLong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ulong theULong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char theCha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float theFloa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ouble theDouble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bool theBoo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decimal theDecimal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ring theStr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ValueTester v = new DefaultValueTester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40F4-8D62-46D7-AC4C-235A4F0B94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natomy of a Simple C#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9144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28600" y="838080"/>
            <a:ext cx="8763120" cy="411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By convention, C# files end with a *.cs file extens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 World!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D31C-0423-4815-B323-1C197C50D4A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228600" y="1522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define variables within a method scope, you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initial value before you use them, as they do not receive a defaul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04920" y="1371600"/>
            <a:ext cx="8686800" cy="1739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r error! Must assign localInt to an initial value before u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localI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localI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3638520"/>
            <a:ext cx="8686800" cy="2157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etter w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 localInt=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localIn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C97F-A157-44AA-A5DE-89A02B3786C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# Member Variable Initialization Synt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228600" y="83808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lass may define various custom constructors,  and its anno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 write the same initialization code in each and every constru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mplement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particularly necessary if you do not wish to accep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ault values assigned to your stat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304920" y="2971800"/>
            <a:ext cx="8610480" cy="2770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This is OK, but redundant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int myIn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) 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string someStringPa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(bool someBoolPara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B90C-B09E-414A-938B-698732C4D3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22860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alternative would be to define a private helper function for y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 type that is called by each construc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1143000"/>
            <a:ext cx="8763120" cy="3660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is OK, but redundant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myIn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) 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string someStringPar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st(bool someBoolPara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InitData()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void InitData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myInt = 9;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228600" y="5029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both of these techniques are still valid, C# allows you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 a type's member data to an initial value at the tim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cla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ABBC-C4FD-4B7E-B7D1-D76897E911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304920" y="30492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is technique is useful when you don't want to accept default val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and would rather not write the same initialization code in each constructo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myInt = 9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myStr = "My initial value.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tRod viper = new HotRod(200, "Chucky", Color.Red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6AF9-C504-42AB-A681-D971ACCDA9C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Input and Output with the Console 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228600" y="838080"/>
            <a:ext cx="87631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ethods of System.Console are Read(), ReadLine() Write(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riteLine(), all of which are defined as stati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Line() pumps a text string (including a carriage return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the output strea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rite() method pumps text to the output stream withou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rriage retur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Line() allows you to receive information from the input strea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p until the carriage retur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() is used to capture a single character from the input stre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7329-8A86-4FC2-B06A-8359031A23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04920" y="228600"/>
            <a:ext cx="8610480" cy="4826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Make use of the Console class to perform basic 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Basic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("Enter your nam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ing s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Hello, {0}",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("Enter your age: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your are {0} years old", 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1AE1-DEFA-4BCF-BA6F-C97F2AE461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matting Textual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304920" y="762120"/>
            <a:ext cx="8686800" cy="420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Make use of the Console class to perform basic 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Bas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theInt = 9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oat theFloat = 9.99F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IO myIO = new BasicIO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Format a string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Int is : {0} \n Float is: {1} \n You Are: {2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Int, theFloat, myIO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304920" y="51055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Line() has been over-loaded to allow you to specif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laceholder values as an array of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7940-9F29-461E-AAC4-82CA2B80B86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28600" y="228600"/>
            <a:ext cx="8763120" cy="1313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Fill placeholders using an array of objec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[] stuff = {"Hello", 20.9, 1, "There", "83", 99.99933} 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he Stuff: {0} , {1} , {2} , {3} , {4} , {5} ", stuff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04920" y="1752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ant to build the string "9Number9Number9” write as be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4920" y="2362320"/>
            <a:ext cx="861048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{0}Number{0}Number{0}", 9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304920" y="838080"/>
            <a:ext cx="868680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c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(args.Length == 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 So Please enter two numbers as command l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parameters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 Command line parameters recieved ar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ach (string str in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for command line parame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04920" y="304920"/>
            <a:ext cx="8534160" cy="4826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sum = 0, prod = 1,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ach (string str in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= int.Parse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= sum +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 = prod * d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 \n Sum of command line parameters = " + sum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 \n Product of command line parameters = " +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prod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C3ED-1B39-4BB8-A398-EFCEE7DF83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.... 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"+args[0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"+args[1]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and line argu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A5F-BC54-4B26-8638-EFC28A27AC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0492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ing Formatting Fla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04920" y="609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NET String Format Charac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915400" cy="4191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228600" y="54100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format characters are suffixed to a given placeholder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olon token (for example, {0:C}, {1:d}, {2:X}, and so on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8AAF-8CEA-48E7-B875-A744A35A11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228600" y="228600"/>
            <a:ext cx="8686800" cy="4972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Now make use of some format tag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 format: {0:C}", 99989.987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D9 format: {0:D9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E format: {0:E}", 99999.76543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F3 format: {0:F3}", 99999.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 format: {0:N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X format: {0:X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x format: {0:x}", 99999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4539-11D8-490B-B57B-33FD191F7C7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304920" y="228600"/>
            <a:ext cx="853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se of the C# formatting characters is not limited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Console.WriteLine()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se same flags can be used within the context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tatic String.Format() meth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can be helpful when you need to build a string contain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 values in memory and display it at a later t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8600" y="3124080"/>
            <a:ext cx="8610480" cy="157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se the static String.Format() method to build a new str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ing formStr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Str = String.Format("Don't you wish you had {0:C} in your account?", 99989.987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formStr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C53-8E10-4581-8DA8-48FAE5CE378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Value Types and Reference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52280" y="838080"/>
            <a:ext cx="8839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.NET data type may b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lue-bas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ference-base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-based types include all numerical data types (int, float..)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s enumerations and structures, are allocat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 the stac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 types can be quickly removed from memory once they fall 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defining sco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04920" y="3124080"/>
            <a:ext cx="861048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Integers are value type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 =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// 'i' is popped off the stack her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64F0-B5EE-430B-A9F6-D1CCFB0BE2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28600" y="30492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ssigning two intrinsic value types results in  two independent variables on the sta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i = 9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 j =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fter the following assignment, i is still 9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= 873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59A3-6FC6-4242-B952-ABCE63210C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152280" y="76320"/>
            <a:ext cx="8915400" cy="670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Structures are value types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 FO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ass ValRefCl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 f1 = new FOO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1.x = 1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1.y = 1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-&gt; Assigning f2 to f1\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 f2 = f1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Here is F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y = {0}", f1.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Here is F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y = {0}", f2.y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Change f2.x.  This will not change f1.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-&gt;Changing f2.x to 900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2.x=90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Print aga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04920" y="304920"/>
            <a:ext cx="8534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we have created a structure of type FOO (named f1) tha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hen assigned to another FOO structure (f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use FOO is a value type, we have two copies of the FO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ype on the stack, each of which can be independ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manipula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we change the value of f2.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 value of f1.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naff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71E3-2019-4DFD-A691-6C5E03F5A68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2"/>
          <p:cNvSpPr/>
          <p:nvPr/>
        </p:nvSpPr>
        <p:spPr>
          <a:xfrm>
            <a:off x="228600" y="30492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trast, reference types are allocated on the garbage-collect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entities stay in memory until the .NET garbage collect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oys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ignment of reference types results in a new reference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ame object in the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04920" y="3352680"/>
            <a:ext cx="861048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Classes are always reference ty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FO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 x, 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2C44-30FF-4D98-8367-FEC92C3693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55680" y="76320"/>
            <a:ext cx="8610480" cy="667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ValRef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 f1 = new FOO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1.x = 1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1.y = 1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&gt; Assigning f2 to f1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 f2 = f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Here is F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y = {0}", f1.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Here is F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y = {0}", f2.y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Change f2.x.  This will  change f1.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-&gt;Changing f2.x to 900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2.x=90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Print agai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2.x = {0}", f2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f1.x = {0}", f1.x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30492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you have two references pointing to the same object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aged hea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when you change the value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 f2 referenc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f1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lects the sam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576C-0B9F-4D99-BBC0-5018F7A98F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838080"/>
            <a:ext cx="876312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 = "c sharp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String objects in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D9B0-18B6-4193-9D0E-78B170F963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355680" y="177840"/>
            <a:ext cx="85341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lue Types Containing Reference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228600" y="9144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you have the following reference (class) ty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228600" y="1533600"/>
            <a:ext cx="876312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apeInf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infoStr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hapeInfo(string inf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String = inf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228600" y="4648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assume that you want to contain a variable of this refere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within a value type (structur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EAFA-2A5E-4E30-89EF-B87FD841D5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152280" y="228600"/>
            <a:ext cx="8839440" cy="381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Rectang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MyRectangle structure contains a reference type memb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Shape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           //Refrence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 top, left, bottom, right;    //Value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tring inf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ew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ShapeInf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f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= left = 1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= right = 1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BD16-4274-4ADE-9E18-4100D7857F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228600" y="22860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reference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Create the first MyRectang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Creating r1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1 = new 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"This is my first rect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Now assign a new MyRectangle to r1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Assigning r2 to r1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cc3300"/>
                </a:solidFill>
                <a:latin typeface="Times New Roman"/>
              </a:rPr>
              <a:t>MyRectang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2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 = r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Change values of r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Changing all values of r2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10199"/>
                </a:solidFill>
                <a:latin typeface="Times New Roman"/>
              </a:rPr>
              <a:t>rectInf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infoString = "This is new info!"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bottom = 4444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Print val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Values after change: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1.rectInfo.infoString: {0}", r1.rectInfo.infoStri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2.rectInfo.infoString: {0}", r2.rectInfo.infoStri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1.bottom: {0}", r1.bott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-&gt; r2.bottom: {0}", r2.bottom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304920" y="22860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change the value of the informational string using the r2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, the r1 reference displays the same valu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when a value type contains other reference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ment results in a cop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f the referenc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you have two independent structures, each of whi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tains a reference pointing to the same object in memory (i.e.,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hallow cop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1F27-A8A0-49B3-909F-D37C1F560F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355680" y="177840"/>
            <a:ext cx="853416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lue and Reference Types: Final Detai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763120" cy="4419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5"/>
          <p:cNvSpPr/>
          <p:nvPr/>
        </p:nvSpPr>
        <p:spPr>
          <a:xfrm>
            <a:off x="1295280" y="1143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e Types and Reference Types Side b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3047-6CDD-4C61-B373-7E44B6EB7D4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33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678-10C1-4A5A-97B0-B8A3AF3FB44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355680" y="177840"/>
            <a:ext cx="853416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ster Node: System.Ob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228600" y="990720"/>
            <a:ext cx="8763120" cy="40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#, every data type (value or reference based) is ultimate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from a common base class: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bject class defines a common polymorphic behavior for eve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in the .NET unive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ish to explicitly stat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your base class, yo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free to define your class definitions using either of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57200" y="4876920"/>
            <a:ext cx="8534520" cy="1313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Here we are explicitly deriving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: System.Object 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ame story her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: object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533520" y="2666880"/>
            <a:ext cx="807696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Implicitly deriving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Class {...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2BB3-72BD-452F-8EAF-4FB923EC872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228600" y="1522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most .NET classes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Objec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fines a set of instance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vel and class-level (static) membe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some of these items are declared "virtual," and c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refore be overridden by a derived clas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304920" y="1990800"/>
            <a:ext cx="86104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e topmost class in the .NET world: System.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pac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jec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Ojbec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ean Equals(Object obj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t32 GetHashCod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tring ToString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r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oid Finaliz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Object MemberWiseClon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Equals(object objA, object obj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bool ReferenceEquals(object objA, object objB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5C4F-4D7B-4D9B-82FB-EC7CCEADD4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7260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228600" y="5335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e Members of System.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1EF8-5A10-4BE0-AA9D-B93140FEA88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4267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8AB6-79C8-44C0-BA42-D13BB2CB05F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228600" y="838080"/>
            <a:ext cx="8763120" cy="5580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Test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void fu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Console.WriteLine("hooooooooooooooo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Class test = new TestClass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.fun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gram with two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E1A7-B15D-4D89-A95C-250680BC854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228600" y="228600"/>
            <a:ext cx="876312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reate some objects and exercise the inherited System.Object method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Obj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an instance of ObjTes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Test c1 = new ObjTest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Pump info to conso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ToString: {0} ", c1.ToString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Hash code: {0} ", c1.GetHashCode(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Base class: {0} ", c1.GetType().BaseTyp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ake some other references to c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Test c2 = c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 o = c2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re all 3 instances pointing to the same object in memory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o.Equals(c1) &amp;&amp; c2.Equals(o)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Same instance!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6477120" y="304920"/>
            <a:ext cx="2666880" cy="1143000"/>
          </a:xfrm>
          <a:prstGeom prst="wedgeRectCallout">
            <a:avLst>
              <a:gd name="adj1" fmla="val -54226"/>
              <a:gd name="adj2" fmla="val 1658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erived classes override this method to return a string representing the values of its internal state dat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6248520" y="4800600"/>
            <a:ext cx="2666880" cy="838080"/>
          </a:xfrm>
          <a:prstGeom prst="wedgeRectCallout">
            <a:avLst>
              <a:gd name="adj1" fmla="val -37736"/>
              <a:gd name="adj2" fmla="val -2375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turns an integer that identifies a specific object instan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838080" y="1143000"/>
            <a:ext cx="2667240" cy="1143000"/>
          </a:xfrm>
          <a:prstGeom prst="wedgeRectCallout">
            <a:avLst>
              <a:gd name="adj1" fmla="val 153986"/>
              <a:gd name="adj2" fmla="val 14333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GetType() retrieves a System.Type object, which defines a property named BaseTyp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80880" y="2514600"/>
            <a:ext cx="3581640" cy="1143000"/>
          </a:xfrm>
          <a:prstGeom prst="wedgeRectCallout">
            <a:avLst>
              <a:gd name="adj1" fmla="val 26287"/>
              <a:gd name="adj2" fmla="val 140138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default behavior of Equals() is to compare two objects' variables using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reference semantics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semantic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D78F-F030-4CBD-8A73-F063EC2F4D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2"/>
          <p:cNvSpPr/>
          <p:nvPr/>
        </p:nvSpPr>
        <p:spPr>
          <a:xfrm>
            <a:off x="380880" y="152280"/>
            <a:ext cx="85345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riding Some Default Behaviors of System.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28600" y="838080"/>
            <a:ext cx="868680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the System.Object can be used in number of cases, i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ite common for our custom types to override some of the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herited metho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efines a number of virtual methods (such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String() and Equals()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ver, if we want to build a custom implementation of thes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rtual members for a derived type, we make use of the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override" keyw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0344-AC94-4C66-8825-CCBAC891414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52280" y="1522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illustrate, assume we have a Person class that defines some state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representing an individual's name, social security number, and ag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28600" y="99072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Remember! All classes implicitly derive from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Person(string fname, string lname, string ssn, byte 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Name = f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Name = l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SN = ss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 = 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Person(){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e state of a pers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firs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lastNam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ring SSN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byte ag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F45D-E100-4CC5-89CD-3B01D496B9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2280"/>
            <a:ext cx="8534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ToString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04920" y="685800"/>
            <a:ext cx="876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override System.Object.ToString() to return a tex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ation of a person’s sta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254160" y="1498680"/>
            <a:ext cx="8686800" cy="3987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Need to reference this namespace to access StringBuilder type using System.Tex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 Person Class implements ToString() as s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Overriding System.Object.ToString(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ing ToString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ingBuilder sb = new StringBuilder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[FirstName = {0}", this.first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LastName = {0}", this.lastNam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SSN = {0}", this.SSN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b.AppendFormat(" Age = {0}]", this.ag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sb.ToString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....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304920" y="54100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type is typically more efficient alternative to System.String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iven that we have direct access to the underlying buffer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aracter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5C1A-62CF-4566-85DA-48321344129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228600" y="7632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Equals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228600" y="1600200"/>
            <a:ext cx="868680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Person class implements Equals() as s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rs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rid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ol Equals(object 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oes the incoming object instance have the same values as m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 temp = (Person)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temp.firstName == this.firstName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lastName == this.lastName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SSN == this.SSN &amp;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.age == this.ag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fals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28600" y="6858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quals() returns true only if the two references being compared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ing the same object in mem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CE7D-D197-47CC-8748-C79B934B04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152280" y="15228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erriding GetHashCode(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152280" y="914400"/>
            <a:ext cx="883944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lass overrides the Equals() method, we should also overri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default implementation of GetHashCode() (if  not, we are issu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compiler warning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thod returns a numerical value &amp; used to identify an object 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ory, and is commonly used with hash-based collec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are many algorithms that can be used to create a hash cod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ome fancy, others not so fanc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simplest case, an object's hash value will be generat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aking its state data into consideration, and building a uniq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umerical identifier for the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1CD-EEF7-47E7-97A6-9DBAA28103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228600" y="228600"/>
            <a:ext cx="861048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Return a hash code based on the person's SS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override int GetHashC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SSN.GetHashCode(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E571-F4D3-4750-ABE3-225C8DE0F39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304920" y="152280"/>
            <a:ext cx="8610480" cy="627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NOTE: We want these to be identical to test the Equals() metho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 p1 = new Person("Fred", "Jones", "222-22-2222", 98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 p2 = new Person("Fred", "Jones", "222-22-2222", 98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Equals() now uses value semantic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As well, given that each object has the same SSN, they should ha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he same hash-code (given the work performed by System.String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(p1.Equals(p2) &amp;&amp; p1.GetHashCode() = = p2.GetHashCode(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have same state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are DIFFERENT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Change state of p2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Changing the age of p2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2.age = 2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est again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(p1.Equals(p2) &amp;&amp; p1.GetHashCode() = = p2.GetHashCode()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have same state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P1 and P2 are DIFFERENT\ n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Get 'stringified' version of object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"Stringified people!"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p1.ToString()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ole.WriteLine(p2)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/ ToString() called automatical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8BFC-A7A7-4C38-8F4A-59AA359B727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52280" y="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Members of System.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228600" y="457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bject does define two static members (Object.Equals()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.ReferenceEquals()) that  test for value-based 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based equalit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304920" y="1660680"/>
            <a:ext cx="8458200" cy="3606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Static members of System.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 p3 = new Person("Sally", "Jones", "333",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 p4 = new Person("Sally", "Jones", 333", 4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Do p3 and p4 have the same state? TRU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3 and p4 have same state: {0} ", object.Equals(p3,p4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Are they the same object in memory? FALSE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p3 and p4 are pointing to same object :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.ReferenceEquals(p3,p4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2578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ough the object.ReferenceEquals method is not frequ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ed, its existence helps reveal the behavior of the vir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ecution environment with regards to memory allocations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ferential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C4C-7809-4F30-8FC7-D4D08AF309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2280" y="15228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 Data Types (and C# Alias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279360" y="830160"/>
            <a:ext cx="8583480" cy="51976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99B5-08A7-4A0C-B450-33C96B4713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228600" y="695160"/>
            <a:ext cx="876312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.Windows.Form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HelloMess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peak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Box.Show("Hello..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3565440"/>
            <a:ext cx="87631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TestAp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Testing! 1, 2, 3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loMessage h = new HelloMessag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Speak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87480"/>
            <a:ext cx="87631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e more example…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E157-DA76-459B-A2B2-ED2D645C10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4724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28600" y="4946760"/>
            <a:ext cx="8763120" cy="122544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82FD-13D1-4D6D-9FF2-D6A683E84EE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543800" cy="61722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0BA-5E8C-4A97-8489-163B0148C3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C# defines a number of data types, only a subse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ole are compliant with the rules of the CL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build custom types that must work seamlessly across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anguages, you must stick to this well-defined sub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0F0-4189-4E1C-A324-2183F61EDC6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52280" y="7632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erimenting with the System Data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152280" y="6858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nly purpose of System.ValueType is to override the virtu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 defined by System.Object to work with value-based versu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-based seman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228600" y="2305080"/>
            <a:ext cx="8763120" cy="2654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Test value seman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Int32 intA = 1000; // Same as: int intA = 10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Int32 intB = 1000; // Same as int intB = 100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The test succeeds! The two instances contain the sam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(intA = = int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Same Val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2D9-2BFC-4CC4-8D4A-E5DEE288EBE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sic Numerical Memb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152280" y="60948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umerical types support MaxValue and MinValue propert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at provide information regarding the minimum and maximum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 given type can h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28600" y="1828800"/>
            <a:ext cx="8686800" cy="4717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 MyDataTyp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Int16 myUInt16 = 300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for an UInt16 is :{0}", UInt16.Max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in for an UInt16 is :{0}", UInt16.Min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Value is: {0}", myUInt16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 am a: {0}",myUInt16.GetType().ToString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Now in System.UInt16 shorthand( eg. a ushort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hort myOtherUInt16 = 1200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ax for an UInt16 is: {0}", ushort.Max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in for an UInt16 is: {0}", ushort.MinValue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Value is: {0}", myOtherUInt16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I am a: {0}", myOtherUInt16.GetType().ToString()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97FA-AF21-4C84-A65E-2C023DBF01F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266760" y="144360"/>
            <a:ext cx="8610480" cy="6573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lass MyDataTyp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Int16 myUInt16 = 3000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ax for an UInt16 is :{0}", UInt16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in for an UInt16 is :{0}", UInt16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Value is: {0}", myUInt16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I am a: {0}",myUInt16.GetType().ToString()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//Now in System.UInt16 shorthand( eg. a ushort)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ushort myOtherUInt16 = 1200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ax for an UInt16 is: {0}", ushort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Min for an UInt16 is: {0}", ushort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Value is: {0}", myOtherUInt16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I am a: {0}", myOtherUInt16.GetType().ToString()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Epsilon: {0}", double.Epsilon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PositiveInfinity: {0}", double.PositiveInfinity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</a:t>
            </a:r>
            <a:r>
              <a:rPr b="0" sz="1500" spc="-1" strike="noStrike">
                <a:solidFill>
                  <a:srgbClr val="000000"/>
                </a:solidFill>
                <a:latin typeface="Times New Roman"/>
              </a:rPr>
              <a:t>double.NegativeInfinity: {0}", double.NegativeInfinity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MaxValue: {0}", double.Max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Console.WriteLine("double.MinValue: {0}", double.MinValue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7049-AE10-49F4-807D-5285B7D822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ers of System.Bool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152280" y="83808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Boolean support a TrueString/FalseStr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28600" y="1371600"/>
            <a:ext cx="868680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 = 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//Il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2 = -1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//Il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3 = tru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// No pr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ool b4 = false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//No pr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--&gt; bool.FalseString: {0}", bool.False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--&gt; bool.TrueString: {0}", bool.TrueString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B434-C748-4C7F-935A-2906D51A5CB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bers of System.Ch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152280" y="762120"/>
            <a:ext cx="8839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offers a very simplified view of string man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.NET-aware languages map textual data to the same underly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(System.String and System.Char), both are Unicod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e static methods of System.Char, you are able to determ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f a given character is numerical, alphabetical, a point of punctua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whatn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77D2-8226-4C9C-970A-3174625B7E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228600" y="228600"/>
            <a:ext cx="8686800" cy="5992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Digit('K'): {0}", char.IsDigit('K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Digit('9'): {0}", char.IsDigit('9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('10', 1): {0}", char.IsLetter("10", 1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('p'): {0}", char.IsLetter('p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WhiteSpace('Hello There', 5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WhiteSpace("Hello There", 5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WhiteSpace('Hello There', 6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WhiteSpace("Hello There", 6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LetterOrDigit('?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LetterOrDigit('?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!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!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&gt;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&gt;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char.IsPunctuation(','): {0}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ar.IsPunctuation(','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EBB-1C09-4860-873F-F53050AF97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152280" y="7632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sing Values from Str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52280" y="838080"/>
            <a:ext cx="8763120" cy="4117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bool myBool = bool.Parse("True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Bool: {0}", myBoo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double myDbl = double.Parse("99.884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Dbl: {0}", myDbl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 myInt = int.Parse("8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Int: {0}", myInt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har myChar = char.Parse("w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-&gt; Value of myChar: {0}\n", myCh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1517-B84A-464E-81E5-DF283152A52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("Enter your name: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name = Console.ReadLin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Hello" + name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active console 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EFA5-E568-47DC-B56E-71266177A50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52280" y="76320"/>
            <a:ext cx="8915400" cy="9471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ng Between Value Types and Reference Types: Boxing and Unbo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152280" y="1143000"/>
            <a:ext cx="88394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defines the types into value-based and reference-bas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times we need to represent a variable of one category a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riable of the other categ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a very simple mechanism to convert between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s and reference types, termed as box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04920" y="3581280"/>
            <a:ext cx="86104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Make a simple value data poi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hort s = 2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04920" y="5470560"/>
            <a:ext cx="861048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x the value into an object referen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Short = 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304920" y="44197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above value type need to be represented as reference typ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can box it as bel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729B-DE62-4E22-A1A9-470A621FB96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228600" y="228600"/>
            <a:ext cx="87631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xing can be formally defined as the process of explici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verting a value type into a corresponding reference typ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box a value, the CLR allocates a new object on the hea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copies the value type’s value (in this case, 25) into that instance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at is returned to you is a reference to the newly allocated obje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pposite operation is also permitted through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box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boxing is the term given to the process of converting the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ld in the object reference, back into a corresponding value type 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tack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unboxing operation begins by verifying that the receiving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is equivalent to the boxed type, and if so, copying the value o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the box into a local stack based vari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0880" y="5410080"/>
            <a:ext cx="86868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Now, unbox the reference back into a corresponding sh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short anotherShort = (short)objShor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495-CCBD-42B3-BDCE-2CCD6F3269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228600" y="93600"/>
            <a:ext cx="8610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very important that we have to unbox into an appropriate dat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the following unboxing logic generates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validCastException excep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04920" y="2041560"/>
            <a:ext cx="8610480" cy="466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The type contained in the box is NOT a string, but a shor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tr = (string)objShor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(InvalidCastException 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OOPS! \n {0}", e.ToString()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9007-076C-4CBB-9773-242267BA2A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 Practical (Un)boxing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52280" y="914400"/>
            <a:ext cx="883944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pass a value type into a method requiring an object parameter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xing occurs behind the curtai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invoke members of the underlying value type, w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 required to perform an explicit unboxing op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02F6-46FD-473E-A871-85035992C27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190440" y="304920"/>
            <a:ext cx="876312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Boxer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Create an int (value typ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myIn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= 9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ecause myInt is passed into 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thod prototyped to take an objec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myInt is 'boxed' automaticall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ff3300"/>
                </a:solidFill>
                <a:latin typeface="Times New Roman"/>
              </a:rPr>
              <a:t>UseThisObjec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sz="2000" spc="-1" strike="noStrike">
                <a:solidFill>
                  <a:srgbClr val="010199"/>
                </a:solidFill>
                <a:latin typeface="Times New Roman"/>
              </a:rPr>
              <a:t>myIn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</a:t>
            </a:r>
            <a:r>
              <a:rPr b="0" sz="2000" spc="-1" strike="noStrike">
                <a:solidFill>
                  <a:srgbClr val="ff3300"/>
                </a:solidFill>
                <a:latin typeface="Times New Roman"/>
              </a:rPr>
              <a:t>UseThisObject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(object 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alue of o is: {0}", 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tomatic boxing also occurs when working with the typ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.NET base class librari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the System.Collections namespace defines a class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amed ArrayList. Like most collection types, ArrayList provid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bers that allow you to insert, obtain, and remove it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2971800"/>
            <a:ext cx="8534160" cy="302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// Box ints into ArrayLi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rrayList myInts = new ArrayLis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8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myInts.Add(9764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// Unbox first i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int firstItem = (int)myInts[0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Console.WriteLine("First item is {0}", firstIte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52280" y="822240"/>
            <a:ext cx="89154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TestBox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 = 123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object obj = i;  // Implicit box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value-type value = {0}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object-type value = {0}",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 = 456;       // Change the contents of i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\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he value-type value = {0}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The object-type value = {0}", ob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j = (int)obj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//unbox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The value-type value = {0}", j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152280"/>
            <a:ext cx="8534520" cy="45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xing &amp; Unboxing Exam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04920" y="228600"/>
            <a:ext cx="8610480" cy="65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o implement stack op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using System.Collection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csta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ndex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ArrayList lis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stack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 = -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 = new ArrayLis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push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 Enter an item to push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str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.Add(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{0} is pushed onto the Stack.", 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228600"/>
            <a:ext cx="8610480" cy="61779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public void pop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 Stack is emp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object obj = list[index]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list.RemoveAt(index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ndex--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Poped item is {0}", obj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public void status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 Stack is empt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\n Contents of the STACK: \n"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foreach (object obj in lis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obj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Console.WriteLine("The count of stack elements is : {0}",list.Count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28600" y="228600"/>
            <a:ext cx="868680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oid clear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index == 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Stack is emp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list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dex = -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The stack is emptied.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89CE-1553-4BB6-9D22-5B4F1AF4B0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228600" y="838080"/>
            <a:ext cx="8763120" cy="3751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HelloClass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void Main(string[] ar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x = 5.0,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=Math.Sqrt(x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ole.WriteLine(" Y = " + y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Mathematics fun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228600" y="22860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Stack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stack st = new cstack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i=1, ch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while(i==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Welcome to STACK Operations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1-----&gt; PUSH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2-----&gt; POP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3-----&gt; STATUS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4-----&gt; CLEAR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5-----&gt; EXIT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********************************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\n Enter your choic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h = int.Parse(Console.ReadLine(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228600"/>
            <a:ext cx="8610480" cy="6497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witch (ch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1: st.push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2: st.pop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3: st.status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4: st.clea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5: Environment.Exit(-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fault: Console.WriteLine(" Sorry !!! Wrong  choice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\n Press ENTER to Continu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 End of STACK operations... Bye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6AA9-1681-422E-B819-1441CCE958F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ng Program 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228600" y="838080"/>
            <a:ext cx="87631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ffers the "const" keyword, to define variables with a fixe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alterable val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"const" keyword cannot be used to qualify parameters or retur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alue of a  constant point of data is computed 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mpile tim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a constant member cannot be assigned to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(whose value is computed at runtim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it is possible to define local constants within a metho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cope, a more beneficial use of const is to create class-level consta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04B-6907-4A5B-99B3-29B90B8F9E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228600" y="228600"/>
            <a:ext cx="8610480" cy="4483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ome const da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MyConst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string myStringConst = "I'am a const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scoped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 string localConst = "I am a rock, I am an island"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use const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myIntConst = {0} \n myStringConst = {1}"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IntConst, myStringCons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Local constant: {0}", localConst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B6CA-E9D9-4D66-B66E-7CA85682C2D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228600" y="152280"/>
            <a:ext cx="8686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create a utility class that contains nothing but constant data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may wish to define a private construct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we ensure that the object user cannot make an inst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 our cla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04920" y="198108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Private constructors prevent the creation of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My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string myStringConst = "I'm a const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Don't let the user make this clas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s its only purpose is to define constant val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ate MyConstants(){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4EC-68A9-4304-9DA7-E6B981B3CE3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228600" y="152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ame result can be achieved by marking our "constant-on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lass" as an abstract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28600" y="1143000"/>
            <a:ext cx="8686800" cy="228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bstract definition also prevents the creation of a given typ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class MyConst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int myIntConst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onst string myStringConst = "I'm a const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4F75-55CC-471F-A29A-EBD53B64CC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228600" y="120600"/>
            <a:ext cx="89154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ing Constant Data Across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52280" y="838080"/>
            <a:ext cx="8839440" cy="30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moved our constant points of data into a new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, how are they accessed from within another type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attempt to simply reference them by their unqualified na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myIntConstant, myStringConstant) we will get a compiler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ason is that under C#, global points of data are not allow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any time we wish to access a constant defined outsid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ng class, we must make use of the fully-qualified nam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79F5-7A1F-4792-AA81-29ED1C9C0FC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152280" y="152280"/>
            <a:ext cx="883944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rivate constructors prevent the creation of a given typ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onst int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Int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onst string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String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"I'm a const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Const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void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 string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ocal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"I am a rock, I am an island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yIntConst = {0}\n myStringConst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1}\n LocalConst = {2}"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Int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10199"/>
                </a:solidFill>
                <a:latin typeface="Times New Roman"/>
              </a:rPr>
              <a:t>MyConsta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yString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localCon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4B53-AE40-402B-AD47-E0D429128A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Iteration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228600" y="83808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provides the following four iteration construc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each/in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le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/while lo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4D46-217B-4D30-9A31-60679CEFDA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228600" y="228600"/>
            <a:ext cx="8686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or loo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specify how many times a block of code repea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tself, as well as the terminating condi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304920" y="1981080"/>
            <a:ext cx="853416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A basic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Note! 'i' is only visible within the scope of the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 i = 0; i &lt; 10; 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Number is: {0} "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'i' is not visible he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939-1C27-4A8C-8A51-5C4EE28B2A0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228600" y="100080"/>
            <a:ext cx="868680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iations on the Main()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 return type, array of strings as arg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ing[] ar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No return type, no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 Integer return type, no argu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4DB5-806A-4DA6-A2A2-CDC9E74F92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"/>
          <p:cNvSpPr/>
          <p:nvPr/>
        </p:nvSpPr>
        <p:spPr>
          <a:xfrm>
            <a:off x="228600" y="152280"/>
            <a:ext cx="86868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foreach/in Loo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foreach keyword allows you to iterate over all items withi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 array, without the need to test for the array’s upper lim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are two examples using foreach, one to traverse an array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s and the other to traverse an array of integer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04920" y="2590920"/>
            <a:ext cx="853416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Iterate array items using forea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[] books = {"Complex Algorithms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Do you Remember Classic COM?"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"C# and the .NET Platform"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string s in boo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s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[] myInts = { 10, 20, 30, 40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int i in myIn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E74C-1E8B-40BA-9840-C00DAC21FD8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2"/>
          <p:cNvSpPr/>
          <p:nvPr/>
        </p:nvSpPr>
        <p:spPr>
          <a:xfrm>
            <a:off x="228600" y="152280"/>
            <a:ext cx="868680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while and do/while Looping Construc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hile looping construct is useful when you wish to execut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of statements until some terminating condition has be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ach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in the scope of a while loop, we need to ensure this terminat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vent is indeed established; otherwise, we will be stuck in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dless loo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457200" y="3429000"/>
            <a:ext cx="8381880" cy="268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(condi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ACC-4578-4863-B0E3-77F24C50FB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 simple while loop,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/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used when you need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form some action for an undetermined number of tim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 is tha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o/whi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oops are guaranteed to execut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rresponding block of code at least o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304920" y="1981080"/>
            <a:ext cx="8610480" cy="268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while(condition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F0F3-F68D-4885-8447-9AE8F23BEFE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304920" y="22860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# Control Flow Constr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228600" y="609480"/>
            <a:ext cx="8763120" cy="27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defines two simple constructs to alter the flow of our program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ased on various contingenc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f/else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witch stat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The if/else Statemen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/else statements typically involve the use of the following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cture 5" descr=""/>
          <p:cNvPicPr/>
          <p:nvPr/>
        </p:nvPicPr>
        <p:blipFill>
          <a:blip r:embed="rId1"/>
          <a:stretch/>
        </p:blipFill>
        <p:spPr>
          <a:xfrm>
            <a:off x="76320" y="3505320"/>
            <a:ext cx="906768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4D35-99DC-4B94-8157-73B7A93DC4D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21337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3"/>
          <p:cNvSpPr/>
          <p:nvPr/>
        </p:nvSpPr>
        <p:spPr>
          <a:xfrm>
            <a:off x="228600" y="2606760"/>
            <a:ext cx="86868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The Switch State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witch statement allows you to handle program flow based o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defined set of choi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4B4A-F320-44AF-9399-B06329BB3A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228600" y="152280"/>
            <a:ext cx="8686800" cy="61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Switch on a numerical valu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1 [C#], 2 [VB]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("Please pick your language preference: 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ring langChoice = Console.ReadLin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n = int.Parse(langChoic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witch (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1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Good choice, C# is a fine language.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se 2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VB .NET: OOP, multithreading, and more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defaul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Well...good luck with that!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913E-0EA3-4511-95A8-EA3BADE283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omplete Set of C# Oper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543800" cy="59277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F008-76B9-4F63-B28A-058296C0692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ng Custom Class 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228600" y="838080"/>
            <a:ext cx="8763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defining custom class methods, every method we imple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ust be a member of a class or struc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Main(), our custom methods may or may not take parameter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or may not return valu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custom methods may be declared nonstatic (instance-level) 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atic (class-level) ent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83CB-B80B-44CF-BBEC-746C810082C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228600" y="120600"/>
            <a:ext cx="89154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hod Access Mod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52280" y="83808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hod must specify its level of accessi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offers the following method access modifi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4" name="Picture 5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419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Footer Placeholder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N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F881-79D9-4CF4-87B8-41CBAE59E5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979920" y="15228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are the implications of each accessibility keywor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8600" y="50292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vate methods cannot be accessed by an object reference,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stead are called internally by the object to help the instance get i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ork d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772400" cy="42670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14:47:45Z</dcterms:created>
  <dc:creator>Hemanth</dc:creator>
  <dc:description/>
  <dc:language>en-US</dc:language>
  <cp:lastModifiedBy>Hemanth</cp:lastModifiedBy>
  <dcterms:modified xsi:type="dcterms:W3CDTF">2012-09-06T17:35:39Z</dcterms:modified>
  <cp:revision>617</cp:revision>
  <dc:subject/>
  <dc:title>C# Language Fundamentals</dc:title>
</cp:coreProperties>
</file>